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8C86-DC16-4DFE-8D9E-1E4A9217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9FC1-3CA9-4019-94FB-54654897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91569-B0FA-4E6B-8395-6983B183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46DC5-B58F-45C2-A2C4-ACEB98BE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1C768-EA54-4C54-8E1C-79B1ACF2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F0305-C740-41F7-BF6B-99EFDD7D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FE3D6-68CB-492E-8EC1-19A50293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3B3EE-92E0-4F29-B983-B72A969D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7F072-2DB6-4CAD-861F-D37F92D4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52149-CBE7-4FB3-8870-2ABB33AD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F7045-CA8E-46D9-BB1E-2A0CB976C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54FEC-D8FE-4DCF-AADC-DD0548F6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AA40-8E08-463A-8C11-9C210C34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8663D-AB66-4B4A-A627-39D1BAAC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3E997-EF42-464E-B105-1A86F151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09998-6477-4DF7-AFE1-0D0FD1D4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26E6F-287C-4E0A-ACA0-37FF497B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89E32-9006-49C2-B8B3-ADE033DD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48E1C-9303-47EC-9498-6D9DAFEA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E6A47-7297-4508-9CB6-DF9A7603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73CD1-1FD5-4940-A250-7779E89F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EFE6F-5364-4EE4-AB96-A6B6B012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A0B70-B6AD-406C-807E-6E5E20F8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F5A4-D46F-414E-9291-1F6A211A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13BF2-7CC6-47DA-B388-6017D649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6B08C-BAA6-4698-8E0A-A6890038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739DA-D878-4058-B56C-7AED6183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6AD37-E63A-46EF-87D8-547028BE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0B902-034F-4EDF-8AA6-00E8E432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5C797-FF92-4482-B235-869EABC1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10621-EE92-4D8F-9154-2CD6EAB8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B8BE0-C011-4BB2-AC21-C78D9301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E3D25-53C1-424E-93B0-A9B83FAA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E0768-C873-4550-96BC-64309DD4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4DE8-2405-4A7A-9131-074D82DF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3ADB1-7627-41C4-98A2-9C251A99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0CF35-AFF3-4630-B179-995CB306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D7B59-E582-4FE6-833D-A6E41FFE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353FB-3762-4D4B-824F-B13470B1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31A65-7694-4DC4-BEC0-20C42CE7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AE3EB-3AD4-4EDB-855C-B41935CB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572A3-1A4C-4344-B823-77779E75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46031-58F4-464F-B572-E4B0F276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8AC67-F1A0-4EC6-BB90-2886286B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9BD30-3D8F-4A4F-8668-3C3DCDC0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D385-BA4D-481F-9E4C-38FDDEA3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285BD-C7C5-4FAA-8866-1FFD77F7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3D422-1650-4764-BA51-43D6F926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6E22A-6575-40E4-AAEE-4B794BD1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78FEB-9068-4919-A779-4228BEF4F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E0262-744A-49F2-AAA1-28980E26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A8A6-BCEA-46F1-A2F6-A885D61A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4EB3-646A-47C7-9C81-058273FF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BC53-7D4D-4F1F-8E50-CD29ADB7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9C02-568C-4EC3-A91B-4353E587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944D-9FEC-4D6F-BD38-83E58A66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3447-B01B-40C8-8292-88C7BF45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24D7-2E8F-46FC-A940-74A8CA37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CA77-4EF6-4BE0-A9AC-5E70A2E7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F3FD-9B51-4773-A4E1-3C2942BB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F50A-22F3-4485-8AD1-6ACE0CDD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3292-9E0F-4EF9-9495-052672F4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C4E58-AAF4-4BA4-BFCD-0BCD2A4A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050CC-580D-4977-9412-7FE627D9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6682A-3928-432E-BA7C-20CDCEFC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1C02F-948E-4586-9F6B-C7472CB8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DB2C7-447C-4B70-A108-8384699D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0EA7-759B-4103-BCD0-03BF7979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9CD9F-14AF-497C-B80F-A9F5CC25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A0872-AB95-446C-B2C1-6012CCEB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41AD7-E891-41E3-B2C3-EDC18AD3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88BDA-7B15-44B6-87CA-28C57E5E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ED18E-14BC-4FBB-806A-F4364CC1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156E1-374B-407D-82FD-1A634CFD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E2669-703B-4D1F-A0E9-39E2F02C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55F73-D2EB-4A62-A79D-4D5ABE22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45A17-0A66-4F30-8838-38BFB28C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1BCCB-DE2D-4368-917E-81A8EC9A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8573-02CC-461D-8710-3DCF7FFB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D5FDB-F221-4931-8361-02A81661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20E76-2066-436C-96ED-84ABA918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BE8D5-CE23-4808-8DD6-4647D866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FE035-F086-4409-A48E-04CC06D9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7417E-518A-4A59-96D5-218E56E6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B7626-E51B-461F-A4FA-E98ECD01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AFAA1-F5F8-4AB6-82BC-5FC34967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5BDF4-1E0B-41BA-8E0A-66D73504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3EDCA-86C0-4F5A-BE26-96B533BA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9E344-60DC-4549-927D-9F050C51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5F2B-6433-4158-822F-7FB76D74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7A04A-5724-4F1C-B1DD-82EBDBDE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70548-AD3B-4F44-BB33-804FD784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DF543-CEAA-4B4A-8669-1196BCF3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353FE-6CCB-45A0-A814-56D3A095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C33FF-A5AB-4397-AE28-BCD82A26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F11DE-3610-4B90-9907-582AFEDD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FFFD4-5C71-488B-9FCB-FD044D3C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335BD-D0D1-409F-BAFB-11FCB8C6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AACBB-8AFE-4D8D-BF38-7A69C6BB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00E76-1C6E-4E9C-ADF4-B7CE0F68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5F1C-9764-4CA4-8696-F56B1550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6C12B-9060-460C-9D77-011FC78F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EF36D-5D81-43B9-84D8-CF98E6EF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EE09B-DBAC-444D-8C99-97B883A9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92D5F-EC0A-4D9E-A7FC-EAC86430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E53BE-A217-4F6F-A0BE-39668974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E2797-C045-46EE-94B6-5B94F651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E329F-2865-42E0-A1B9-20367366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04B69-5ABF-4132-8D16-772B3204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AB7F6-B895-4644-BD37-B3662381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ED2E1-E1CD-400A-A532-D5D8C24F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7BFD-A28C-4EDE-9431-45918C2C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DBAFF-C99E-47BA-8377-EF6E48AF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35565-6F1E-4119-A5A4-F0D109BB8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13EB1-C88F-4272-B724-409267E4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F514D-D689-42B4-B34F-EFD14BB2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47801-7174-4463-91DD-58457EF5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0676D-FEA8-4D0B-8145-35A3F2DD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80D48-4787-4EA0-A4B9-E9C69143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74DD3-9429-4E6F-9D0E-A2B380FC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101F9-94A8-4D6B-8AE3-4EBEC192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8BF45-9ACF-489F-828A-B07CCAEE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C1B7-0C66-413A-8672-7B6F6174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386AF-367A-4B35-BB83-E68F10AD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3BDB1-E0C3-4A9B-80AA-E673C47C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B5BF8-1EE2-4146-9FEA-54C2ADD7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FAB26-45A8-4C7E-8E3F-94DCBD1C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F93EE-DB4A-4C2C-974B-7D28C8EE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E51C4-AF23-4F3E-97D2-FECEDE21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6787E-D58E-47FA-A423-2680A650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8569F-F2A3-4BA9-8BD6-AFD01D1B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2414F-CFC4-4765-BE60-569602EB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7F3C5-EBC8-48E3-84DC-709BF9E8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478C-7547-4AE6-B270-17260DB2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BE74A-C6A4-4BA8-9314-E1F7DC63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B2F84-5601-49C5-AC67-F6D6901D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0B371-D10E-4C24-86BA-26E4B79F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1E2E9-E995-4517-96D4-B441424B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6CCF3-2714-4991-AE03-B67A86CD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6A4C3-1A95-4658-8402-EA5497E3C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D6F90-795E-43B9-87C7-8CA91DC8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828C8-A138-4BF5-BDEB-340D0C6C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8AF8C-E19E-4C95-85DA-1175D11E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9264E-AB68-49A3-A474-45824644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F4D4-67A4-4A28-B1EE-47A18E5BF146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Prostokąt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17" name="Prostokąt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Schemat blokowy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chemat blokowy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810E-AD95-4AB2-B770-2D6784FCB76F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65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7EF3-7ECE-4C25-BC00-FB3314E273E3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8B0F-9CF8-4ABE-92DC-3285F17C35F8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F6F6-1F8F-40A7-8C16-C5B9E460969A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7E53-418C-4610-99F1-B23B7A79D266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rostokąt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rostokąt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Elipsa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1" name="Elipsa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41C0-E388-41EC-B6B3-4CA83E8D5B4E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98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3FB2-C794-4429-A45E-5100E348190C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38EA-DF0C-4F95-8EAF-7A5208841A2D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87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8C1D-320F-4D71-9E19-B6D6AAAB6173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rostokąt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rostokąt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1DCB-5BFD-4BF0-8D47-B24DFCA0A4BA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20AE-4692-4A5F-B413-8A1873192E10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pl/url?sa=i&amp;rct=j&amp;q=&amp;esrc=s&amp;frm=1&amp;source=images&amp;cd=&amp;cad=rja&amp;docid=x3O5PxcZ9wWfUM&amp;tbnid=JHO74gw_xqNUDM:&amp;ved=0CAUQjRw&amp;url=http%3A%2F%2Fwww.cauchy.pl%2Fmatura%2Fp_2006_11_p%2F5%2Findex.php&amp;ei=-qCaUcP2JcfnswbJ84GoBg&amp;bvm=bv.46751780,d.Yms&amp;psig=AFQjCNFssyByw83TLltqo_bdrGcZk9xnLA&amp;ust=1369174614896921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40556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Symetrie w układzie współrzędny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rostokąt 4"/>
          <p:cNvSpPr/>
          <p:nvPr/>
        </p:nvSpPr>
        <p:spPr>
          <a:xfrm>
            <a:off x="1187280" y="404640"/>
            <a:ext cx="7560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Uwag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Punkty symetryczne względem osi y mają równe drugie współrzędne, a pierwsze współrzędne są liczbami przeciwnymi, 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czyli</a:t>
            </a:r>
            <a:br>
              <a:rPr sz="2800"/>
            </a:b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P=(x,y) i P’=(-x,y)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Jeżeli punkt leży na osi y, to punktem symetrycznym do niego względem osi y jest ten sam pun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34600" y="274320"/>
            <a:ext cx="74581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Punkty symetryczne </a:t>
            </a:r>
            <a:br>
              <a:rPr sz="4300"/>
            </a:b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względem początku układu współrzędny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7" name="Prostokąt 2"/>
          <p:cNvSpPr/>
          <p:nvPr/>
        </p:nvSpPr>
        <p:spPr>
          <a:xfrm>
            <a:off x="1042920" y="3213000"/>
            <a:ext cx="7561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Gill Sans MT"/>
              </a:rPr>
              <a:t>Zadanie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znacz w układzie współrzędnych punkty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A = (2,3);  B = (-1,5);  C = (4,-2)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D = (-3,-4);  E = (0,5);  F = (6, 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i znajdź punkty do nich symetryczne względem początku układu współrzędny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7" descr="http://www.cauchy.pl/matura/p_2006_11_p/5/uklad_wspolrzednych.gif"/>
          <p:cNvPicPr/>
          <p:nvPr/>
        </p:nvPicPr>
        <p:blipFill>
          <a:blip r:embed="rId1"/>
          <a:stretch/>
        </p:blipFill>
        <p:spPr>
          <a:xfrm>
            <a:off x="2328840" y="249120"/>
            <a:ext cx="4309920" cy="4310280"/>
          </a:xfrm>
          <a:prstGeom prst="rect">
            <a:avLst/>
          </a:prstGeom>
          <a:ln w="0">
            <a:noFill/>
          </a:ln>
        </p:spPr>
      </p:pic>
      <p:sp>
        <p:nvSpPr>
          <p:cNvPr id="629" name="Elipsa 24"/>
          <p:cNvSpPr/>
          <p:nvPr/>
        </p:nvSpPr>
        <p:spPr>
          <a:xfrm>
            <a:off x="4454640" y="1052640"/>
            <a:ext cx="4608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Elipsa 25"/>
          <p:cNvSpPr/>
          <p:nvPr/>
        </p:nvSpPr>
        <p:spPr>
          <a:xfrm>
            <a:off x="6039000" y="2349360"/>
            <a:ext cx="4572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Elipsa 26"/>
          <p:cNvSpPr/>
          <p:nvPr/>
        </p:nvSpPr>
        <p:spPr>
          <a:xfrm>
            <a:off x="3662280" y="342900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Elipsa 27"/>
          <p:cNvSpPr/>
          <p:nvPr/>
        </p:nvSpPr>
        <p:spPr>
          <a:xfrm>
            <a:off x="5533920" y="2924280"/>
            <a:ext cx="46080" cy="73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Elipsa 28"/>
          <p:cNvSpPr/>
          <p:nvPr/>
        </p:nvSpPr>
        <p:spPr>
          <a:xfrm>
            <a:off x="4211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Elipsa 29"/>
          <p:cNvSpPr/>
          <p:nvPr/>
        </p:nvSpPr>
        <p:spPr>
          <a:xfrm>
            <a:off x="5003640" y="155736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Łącznik prosty 30"/>
          <p:cNvSpPr/>
          <p:nvPr/>
        </p:nvSpPr>
        <p:spPr>
          <a:xfrm>
            <a:off x="4211640" y="1089000"/>
            <a:ext cx="550800" cy="2664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Elipsa 31"/>
          <p:cNvSpPr/>
          <p:nvPr/>
        </p:nvSpPr>
        <p:spPr>
          <a:xfrm>
            <a:off x="4716360" y="3716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Łącznik prosty 32"/>
          <p:cNvSpPr/>
          <p:nvPr/>
        </p:nvSpPr>
        <p:spPr>
          <a:xfrm flipH="1">
            <a:off x="3924000" y="1628640"/>
            <a:ext cx="1103400" cy="1513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Elipsa 33"/>
          <p:cNvSpPr/>
          <p:nvPr/>
        </p:nvSpPr>
        <p:spPr>
          <a:xfrm>
            <a:off x="3924360" y="314172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Łącznik prosty 34"/>
          <p:cNvSpPr/>
          <p:nvPr/>
        </p:nvSpPr>
        <p:spPr>
          <a:xfrm flipH="1" flipV="1">
            <a:off x="3459240" y="1884240"/>
            <a:ext cx="2031840" cy="1044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Elipsa 35"/>
          <p:cNvSpPr/>
          <p:nvPr/>
        </p:nvSpPr>
        <p:spPr>
          <a:xfrm>
            <a:off x="3419640" y="1844640"/>
            <a:ext cx="4572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Łącznik prosty 36"/>
          <p:cNvSpPr/>
          <p:nvPr/>
        </p:nvSpPr>
        <p:spPr>
          <a:xfrm flipV="1">
            <a:off x="3708360" y="1341000"/>
            <a:ext cx="1584360" cy="2158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Elipsa 37"/>
          <p:cNvSpPr/>
          <p:nvPr/>
        </p:nvSpPr>
        <p:spPr>
          <a:xfrm>
            <a:off x="5292720" y="1268280"/>
            <a:ext cx="442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Elipsa 38"/>
          <p:cNvSpPr/>
          <p:nvPr/>
        </p:nvSpPr>
        <p:spPr>
          <a:xfrm flipH="1">
            <a:off x="2916360" y="2349360"/>
            <a:ext cx="46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Łącznik prosty 39"/>
          <p:cNvSpPr/>
          <p:nvPr/>
        </p:nvSpPr>
        <p:spPr>
          <a:xfrm flipH="1">
            <a:off x="2987280" y="2421000"/>
            <a:ext cx="3073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ole tekstowe 40"/>
          <p:cNvSpPr/>
          <p:nvPr/>
        </p:nvSpPr>
        <p:spPr>
          <a:xfrm>
            <a:off x="541800" y="4437000"/>
            <a:ext cx="759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ami symetrycznymi względem początku układu współrzędn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ą punkty: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Łącznik prosty 55"/>
          <p:cNvSpPr/>
          <p:nvPr/>
        </p:nvSpPr>
        <p:spPr>
          <a:xfrm flipH="1" flipV="1">
            <a:off x="4460400" y="1091880"/>
            <a:ext cx="39960" cy="26240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Elipsa 59"/>
          <p:cNvSpPr/>
          <p:nvPr/>
        </p:nvSpPr>
        <p:spPr>
          <a:xfrm>
            <a:off x="4454640" y="371628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rostokąt 63" descr=""/>
          <p:cNvPicPr/>
          <p:nvPr/>
        </p:nvPicPr>
        <p:blipFill>
          <a:blip r:embed="rId2"/>
          <a:stretch/>
        </p:blipFill>
        <p:spPr>
          <a:xfrm>
            <a:off x="2249640" y="4979880"/>
            <a:ext cx="4627440" cy="20671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1"/>
          <p:cNvSpPr/>
          <p:nvPr/>
        </p:nvSpPr>
        <p:spPr>
          <a:xfrm>
            <a:off x="999720" y="356400"/>
            <a:ext cx="732672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Uwag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Współrzędne punktów symetrycznych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względem początku układu współrzędnych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są liczbami przeciwnymi, 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czyli</a:t>
            </a:r>
            <a:br>
              <a:rPr sz="2800"/>
            </a:b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P=(x,y)    i     P’=(-x,-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72314"/>
                </a:solidFill>
                <a:latin typeface="Gill Sans MT"/>
              </a:rPr>
              <a:t>Pomysły zadań i ćwiczeń zostały zaczerpnięte z: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1" name="Prostokąt 2"/>
          <p:cNvSpPr/>
          <p:nvPr/>
        </p:nvSpPr>
        <p:spPr>
          <a:xfrm>
            <a:off x="1042920" y="1628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matematyka.opracowania.pl/gimnazjum/symetrie_w_uk%C5%82adzie_wsp%C3%B3%C5%82rz%C4%99dnych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rostokąt 3"/>
          <p:cNvSpPr/>
          <p:nvPr/>
        </p:nvSpPr>
        <p:spPr>
          <a:xfrm>
            <a:off x="1042920" y="227664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ww.matmana6.pl/tablice_matematyczne/liceum/geometria_analityczna/62-uklad_wspolrzed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rostokąt 4"/>
          <p:cNvSpPr/>
          <p:nvPr/>
        </p:nvSpPr>
        <p:spPr>
          <a:xfrm>
            <a:off x="1024200" y="2997360"/>
            <a:ext cx="45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ww.math.edu.pl/uklad-kartezjan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rostokąt 5"/>
          <p:cNvSpPr/>
          <p:nvPr/>
        </p:nvSpPr>
        <p:spPr>
          <a:xfrm>
            <a:off x="1008000" y="335772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iki.wolnepodreczniki.pl/Matematyka:Gimnazjum/Kartezja%C5%84ski_uk%C5%82ad_wsp%C3%B3%C5%82rz%C4%99d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34960" y="115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572314"/>
                </a:solidFill>
                <a:latin typeface="Gill Sans MT"/>
              </a:rPr>
              <a:t>Prostokątny układ współrzędnych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0" name="pole tekstowe 9"/>
          <p:cNvSpPr/>
          <p:nvPr/>
        </p:nvSpPr>
        <p:spPr>
          <a:xfrm>
            <a:off x="1042920" y="3646440"/>
            <a:ext cx="30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Ćwiczeni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Określ położenie Multik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ole tekstowe 10"/>
          <p:cNvSpPr/>
          <p:nvPr/>
        </p:nvSpPr>
        <p:spPr>
          <a:xfrm>
            <a:off x="1042920" y="141300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o czego służ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układ współrzędny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5" descr="C:\Users\temp\Desktop\PPWK_Wloclawek_A4.jpg"/>
          <p:cNvPicPr/>
          <p:nvPr/>
        </p:nvPicPr>
        <p:blipFill>
          <a:blip r:embed="rId1"/>
          <a:stretch/>
        </p:blipFill>
        <p:spPr>
          <a:xfrm>
            <a:off x="4427640" y="1284120"/>
            <a:ext cx="4427280" cy="5384880"/>
          </a:xfrm>
          <a:prstGeom prst="rect">
            <a:avLst/>
          </a:prstGeom>
          <a:ln w="0">
            <a:noFill/>
          </a:ln>
        </p:spPr>
      </p:pic>
      <p:sp>
        <p:nvSpPr>
          <p:cNvPr id="563" name="pole tekstowe 5"/>
          <p:cNvSpPr/>
          <p:nvPr/>
        </p:nvSpPr>
        <p:spPr>
          <a:xfrm>
            <a:off x="1698480" y="5516640"/>
            <a:ext cx="14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Odpowied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3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ole tekstowe 8"/>
          <p:cNvSpPr/>
          <p:nvPr/>
        </p:nvSpPr>
        <p:spPr>
          <a:xfrm>
            <a:off x="890280" y="2567160"/>
            <a:ext cx="30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rzykła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Tesco leży w kwadracie 2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rostokąt 2"/>
          <p:cNvSpPr/>
          <p:nvPr/>
        </p:nvSpPr>
        <p:spPr>
          <a:xfrm>
            <a:off x="1042920" y="260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o określenia położenia punktu na płaszczyźnie używamy prostokątnego układu współrzęd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ole tekstowe 9"/>
          <p:cNvSpPr/>
          <p:nvPr/>
        </p:nvSpPr>
        <p:spPr>
          <a:xfrm>
            <a:off x="1042920" y="98100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rostokątny układ współrzędnych tworzą dwie prostopadłe osie liczbowe, które dzielą płaszczyznę na cztery ćwiartki.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 przecięcia się osi nazywamy początkiem układu współrzęd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7" descr=""/>
          <p:cNvPicPr/>
          <p:nvPr/>
        </p:nvPicPr>
        <p:blipFill>
          <a:blip r:embed="rId4"/>
          <a:stretch/>
        </p:blipFill>
        <p:spPr>
          <a:xfrm>
            <a:off x="3852720" y="981000"/>
            <a:ext cx="4748400" cy="440856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8"/>
          <p:cNvSpPr/>
          <p:nvPr/>
        </p:nvSpPr>
        <p:spPr>
          <a:xfrm>
            <a:off x="1150920" y="5292000"/>
            <a:ext cx="77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ierwszą liczbą  jest  współrzędna x, którą odczytujemy na osi poziomej x (oś odciętyc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rugą liczbą jest współrzędna y, którą odczytujemy na osi pionowej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(oś rzędnych)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rostokąt 13"/>
          <p:cNvSpPr/>
          <p:nvPr/>
        </p:nvSpPr>
        <p:spPr>
          <a:xfrm>
            <a:off x="1042920" y="3751200"/>
            <a:ext cx="28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ołożenie punktu w układzie współrzędnych określamy za pomocą współrzęd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1" i="1" lang="pl-PL" sz="1800" spc="-1" strike="noStrike">
                <a:solidFill>
                  <a:srgbClr val="000000"/>
                </a:solidFill>
                <a:latin typeface="Gill Sans MT"/>
              </a:rPr>
              <a:t>P=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http://www.matmana6.pl/zdjecia/szkola_srednia/geometria_analityczna/uklad_wspolrzednych_6.png"/>
          <p:cNvPicPr/>
          <p:nvPr/>
        </p:nvPicPr>
        <p:blipFill>
          <a:blip r:embed="rId1"/>
          <a:stretch/>
        </p:blipFill>
        <p:spPr>
          <a:xfrm>
            <a:off x="2914560" y="262080"/>
            <a:ext cx="3962520" cy="3273120"/>
          </a:xfrm>
          <a:prstGeom prst="rect">
            <a:avLst/>
          </a:prstGeom>
          <a:ln w="0">
            <a:noFill/>
          </a:ln>
        </p:spPr>
      </p:pic>
      <p:sp>
        <p:nvSpPr>
          <p:cNvPr id="571" name="Prostokąt 4"/>
          <p:cNvSpPr/>
          <p:nvPr/>
        </p:nvSpPr>
        <p:spPr>
          <a:xfrm>
            <a:off x="1042920" y="36450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opasuj do punktów ich współrzęd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B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ole tekstowe 5"/>
          <p:cNvSpPr/>
          <p:nvPr/>
        </p:nvSpPr>
        <p:spPr>
          <a:xfrm>
            <a:off x="992520" y="189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Ćwiczeni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Grupa 5" descr=""/>
          <p:cNvPicPr/>
          <p:nvPr/>
        </p:nvPicPr>
        <p:blipFill>
          <a:blip r:embed="rId2"/>
          <a:stretch/>
        </p:blipFill>
        <p:spPr>
          <a:xfrm>
            <a:off x="1841400" y="551664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74" name="Grupa 8" descr=""/>
          <p:cNvPicPr/>
          <p:nvPr/>
        </p:nvPicPr>
        <p:blipFill>
          <a:blip r:embed="rId3"/>
          <a:stretch/>
        </p:blipFill>
        <p:spPr>
          <a:xfrm>
            <a:off x="1841400" y="4870440"/>
            <a:ext cx="1670040" cy="811080"/>
          </a:xfrm>
          <a:prstGeom prst="rect">
            <a:avLst/>
          </a:prstGeom>
          <a:ln w="0">
            <a:noFill/>
          </a:ln>
        </p:spPr>
      </p:pic>
      <p:pic>
        <p:nvPicPr>
          <p:cNvPr id="575" name="Grupa 14" descr=""/>
          <p:cNvPicPr/>
          <p:nvPr/>
        </p:nvPicPr>
        <p:blipFill>
          <a:blip r:embed="rId4"/>
          <a:stretch/>
        </p:blipFill>
        <p:spPr>
          <a:xfrm>
            <a:off x="1841400" y="421812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76" name="Grupa 17" descr=""/>
          <p:cNvPicPr/>
          <p:nvPr/>
        </p:nvPicPr>
        <p:blipFill>
          <a:blip r:embed="rId5"/>
          <a:stretch/>
        </p:blipFill>
        <p:spPr>
          <a:xfrm>
            <a:off x="4267080" y="551664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77" name="Grupa 20" descr=""/>
          <p:cNvPicPr/>
          <p:nvPr/>
        </p:nvPicPr>
        <p:blipFill>
          <a:blip r:embed="rId6"/>
          <a:stretch/>
        </p:blipFill>
        <p:spPr>
          <a:xfrm>
            <a:off x="4290840" y="4870440"/>
            <a:ext cx="1665360" cy="811080"/>
          </a:xfrm>
          <a:prstGeom prst="rect">
            <a:avLst/>
          </a:prstGeom>
          <a:ln w="0">
            <a:noFill/>
          </a:ln>
        </p:spPr>
      </p:pic>
      <p:pic>
        <p:nvPicPr>
          <p:cNvPr id="578" name="Grupa 23" descr=""/>
          <p:cNvPicPr/>
          <p:nvPr/>
        </p:nvPicPr>
        <p:blipFill>
          <a:blip r:embed="rId7"/>
          <a:stretch/>
        </p:blipFill>
        <p:spPr>
          <a:xfrm>
            <a:off x="4290840" y="4218120"/>
            <a:ext cx="1665360" cy="817560"/>
          </a:xfrm>
          <a:prstGeom prst="rect">
            <a:avLst/>
          </a:prstGeom>
          <a:ln w="0">
            <a:noFill/>
          </a:ln>
        </p:spPr>
      </p:pic>
      <p:pic>
        <p:nvPicPr>
          <p:cNvPr id="579" name="Grupa 26" descr=""/>
          <p:cNvPicPr/>
          <p:nvPr/>
        </p:nvPicPr>
        <p:blipFill>
          <a:blip r:embed="rId8"/>
          <a:stretch/>
        </p:blipFill>
        <p:spPr>
          <a:xfrm>
            <a:off x="6662880" y="551664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80" name="Grupa 29" descr=""/>
          <p:cNvPicPr/>
          <p:nvPr/>
        </p:nvPicPr>
        <p:blipFill>
          <a:blip r:embed="rId9"/>
          <a:stretch/>
        </p:blipFill>
        <p:spPr>
          <a:xfrm>
            <a:off x="6662880" y="4870440"/>
            <a:ext cx="1670040" cy="811080"/>
          </a:xfrm>
          <a:prstGeom prst="rect">
            <a:avLst/>
          </a:prstGeom>
          <a:ln w="0">
            <a:noFill/>
          </a:ln>
        </p:spPr>
      </p:pic>
      <p:pic>
        <p:nvPicPr>
          <p:cNvPr id="581" name="Grupa 32" descr=""/>
          <p:cNvPicPr/>
          <p:nvPr/>
        </p:nvPicPr>
        <p:blipFill>
          <a:blip r:embed="rId10"/>
          <a:stretch/>
        </p:blipFill>
        <p:spPr>
          <a:xfrm>
            <a:off x="6662880" y="4218120"/>
            <a:ext cx="1670040" cy="817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rostokąt 6"/>
          <p:cNvSpPr/>
          <p:nvPr/>
        </p:nvSpPr>
        <p:spPr>
          <a:xfrm>
            <a:off x="1041480" y="2622600"/>
            <a:ext cx="763416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Gill Sans MT"/>
              </a:rPr>
              <a:t>Zadanie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znacz w układzie współrzędnych punkty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A = (2,3);  B = (-1,5);  C = (4,-2)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D = (-3,-4);  E = (0,5);  F = (6, 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i znajdź punkty do nich symetryczne względem osi 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42920" y="98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Punkty symetryczne </a:t>
            </a:r>
            <a:br>
              <a:rPr sz="4300"/>
            </a:b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względem osi x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7" descr="http://www.cauchy.pl/matura/p_2006_11_p/5/uklad_wspolrzednych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28840" y="249120"/>
            <a:ext cx="4309920" cy="4310280"/>
          </a:xfrm>
          <a:prstGeom prst="rect">
            <a:avLst/>
          </a:prstGeom>
          <a:ln w="0">
            <a:noFill/>
          </a:ln>
        </p:spPr>
      </p:pic>
      <p:pic>
        <p:nvPicPr>
          <p:cNvPr id="585" name="Prostokąt 7" descr=""/>
          <p:cNvPicPr/>
          <p:nvPr/>
        </p:nvPicPr>
        <p:blipFill>
          <a:blip r:embed="rId3"/>
          <a:stretch/>
        </p:blipFill>
        <p:spPr>
          <a:xfrm>
            <a:off x="2828880" y="4748040"/>
            <a:ext cx="4619520" cy="2067120"/>
          </a:xfrm>
          <a:prstGeom prst="rect">
            <a:avLst/>
          </a:prstGeom>
          <a:ln w="0">
            <a:noFill/>
          </a:ln>
        </p:spPr>
      </p:pic>
      <p:sp>
        <p:nvSpPr>
          <p:cNvPr id="586" name="Elipsa 10"/>
          <p:cNvSpPr/>
          <p:nvPr/>
        </p:nvSpPr>
        <p:spPr>
          <a:xfrm>
            <a:off x="4454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lipsa 11"/>
          <p:cNvSpPr/>
          <p:nvPr/>
        </p:nvSpPr>
        <p:spPr>
          <a:xfrm>
            <a:off x="6039000" y="2349360"/>
            <a:ext cx="4572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Elipsa 12"/>
          <p:cNvSpPr/>
          <p:nvPr/>
        </p:nvSpPr>
        <p:spPr>
          <a:xfrm>
            <a:off x="3662280" y="342900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Elipsa 13"/>
          <p:cNvSpPr/>
          <p:nvPr/>
        </p:nvSpPr>
        <p:spPr>
          <a:xfrm>
            <a:off x="5533920" y="2924280"/>
            <a:ext cx="46080" cy="73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Elipsa 14"/>
          <p:cNvSpPr/>
          <p:nvPr/>
        </p:nvSpPr>
        <p:spPr>
          <a:xfrm>
            <a:off x="4211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lipsa 15"/>
          <p:cNvSpPr/>
          <p:nvPr/>
        </p:nvSpPr>
        <p:spPr>
          <a:xfrm>
            <a:off x="5003640" y="155736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Łącznik prosty 17"/>
          <p:cNvSpPr/>
          <p:nvPr/>
        </p:nvSpPr>
        <p:spPr>
          <a:xfrm>
            <a:off x="4492800" y="1114560"/>
            <a:ext cx="7920" cy="2601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Elipsa 18"/>
          <p:cNvSpPr/>
          <p:nvPr/>
        </p:nvSpPr>
        <p:spPr>
          <a:xfrm>
            <a:off x="4454640" y="3716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Łącznik prosty 20"/>
          <p:cNvSpPr/>
          <p:nvPr/>
        </p:nvSpPr>
        <p:spPr>
          <a:xfrm flipH="1">
            <a:off x="4211640" y="1063800"/>
            <a:ext cx="6480" cy="2652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Elipsa 21"/>
          <p:cNvSpPr/>
          <p:nvPr/>
        </p:nvSpPr>
        <p:spPr>
          <a:xfrm>
            <a:off x="4211640" y="3716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Łącznik prosty 23"/>
          <p:cNvSpPr/>
          <p:nvPr/>
        </p:nvSpPr>
        <p:spPr>
          <a:xfrm flipH="1">
            <a:off x="5003640" y="1617840"/>
            <a:ext cx="6480" cy="1595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Elipsa 24"/>
          <p:cNvSpPr/>
          <p:nvPr/>
        </p:nvSpPr>
        <p:spPr>
          <a:xfrm>
            <a:off x="5003640" y="314172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Łącznik prosty 30"/>
          <p:cNvSpPr/>
          <p:nvPr/>
        </p:nvSpPr>
        <p:spPr>
          <a:xfrm flipV="1">
            <a:off x="5573880" y="1844640"/>
            <a:ext cx="6120" cy="1090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Elipsa 33"/>
          <p:cNvSpPr/>
          <p:nvPr/>
        </p:nvSpPr>
        <p:spPr>
          <a:xfrm>
            <a:off x="5533920" y="1844640"/>
            <a:ext cx="46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Łącznik prosty 35"/>
          <p:cNvSpPr/>
          <p:nvPr/>
        </p:nvSpPr>
        <p:spPr>
          <a:xfrm flipV="1">
            <a:off x="3700440" y="1341360"/>
            <a:ext cx="7920" cy="2098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Elipsa 36"/>
          <p:cNvSpPr/>
          <p:nvPr/>
        </p:nvSpPr>
        <p:spPr>
          <a:xfrm>
            <a:off x="3662280" y="1268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rostokąt 37"/>
          <p:cNvSpPr/>
          <p:nvPr/>
        </p:nvSpPr>
        <p:spPr>
          <a:xfrm>
            <a:off x="1246680" y="4438800"/>
            <a:ext cx="57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ami symetrycznymi względem osi x są punk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rostokąt 3"/>
          <p:cNvSpPr/>
          <p:nvPr/>
        </p:nvSpPr>
        <p:spPr>
          <a:xfrm>
            <a:off x="1116000" y="189000"/>
            <a:ext cx="71280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Gill Sans MT"/>
              </a:rPr>
              <a:t>Uwaga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Punkty symetryczne względem osi x mają równe pierwsze współrzędne, a drugie współrzędne są liczbami przeciwnymi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, 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czyli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P=(x,y)    i    P’=(x,-y)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Jeżeli punkt leży na osi x, to punktem symetrycznym do niego względem osi x jest ten sam pun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772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572314"/>
                </a:solidFill>
                <a:latin typeface="Gill Sans MT"/>
              </a:rPr>
              <a:t>Punkty symetryczne </a:t>
            </a:r>
            <a:br>
              <a:rPr sz="3900"/>
            </a:br>
            <a:r>
              <a:rPr b="1" lang="pl-PL" sz="3900" spc="-1" strike="noStrike">
                <a:solidFill>
                  <a:srgbClr val="572314"/>
                </a:solidFill>
                <a:latin typeface="Gill Sans MT"/>
              </a:rPr>
              <a:t>względem osi y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Prostokąt 2"/>
          <p:cNvSpPr/>
          <p:nvPr/>
        </p:nvSpPr>
        <p:spPr>
          <a:xfrm>
            <a:off x="1403280" y="2921040"/>
            <a:ext cx="74167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danie 2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znacz w układzie współrzędnych punkty: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A = (2,3);  B = (-1,5);  C = (4,-2)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D = (-3,-4);  E = (0,5);  F = (6, 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i znajdź punkty do nich symetryczne względem osi 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http://www.cauchy.pl/matura/p_2006_11_p/5/uklad_wspolrzednych.gif"/>
          <p:cNvPicPr/>
          <p:nvPr/>
        </p:nvPicPr>
        <p:blipFill>
          <a:blip r:embed="rId1"/>
          <a:stretch/>
        </p:blipFill>
        <p:spPr>
          <a:xfrm>
            <a:off x="2328840" y="249120"/>
            <a:ext cx="4309920" cy="4310280"/>
          </a:xfrm>
          <a:prstGeom prst="rect">
            <a:avLst/>
          </a:prstGeom>
          <a:ln w="0">
            <a:noFill/>
          </a:ln>
        </p:spPr>
      </p:pic>
      <p:sp>
        <p:nvSpPr>
          <p:cNvPr id="607" name="Elipsa 5"/>
          <p:cNvSpPr/>
          <p:nvPr/>
        </p:nvSpPr>
        <p:spPr>
          <a:xfrm>
            <a:off x="4454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Elipsa 6"/>
          <p:cNvSpPr/>
          <p:nvPr/>
        </p:nvSpPr>
        <p:spPr>
          <a:xfrm>
            <a:off x="6039000" y="2349360"/>
            <a:ext cx="4572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Elipsa 7"/>
          <p:cNvSpPr/>
          <p:nvPr/>
        </p:nvSpPr>
        <p:spPr>
          <a:xfrm>
            <a:off x="3662280" y="342900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lipsa 8"/>
          <p:cNvSpPr/>
          <p:nvPr/>
        </p:nvSpPr>
        <p:spPr>
          <a:xfrm>
            <a:off x="5533920" y="2924280"/>
            <a:ext cx="46080" cy="73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Elipsa 9"/>
          <p:cNvSpPr/>
          <p:nvPr/>
        </p:nvSpPr>
        <p:spPr>
          <a:xfrm>
            <a:off x="4211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Elipsa 10"/>
          <p:cNvSpPr/>
          <p:nvPr/>
        </p:nvSpPr>
        <p:spPr>
          <a:xfrm>
            <a:off x="5003640" y="155736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Łącznik prosty 13"/>
          <p:cNvSpPr/>
          <p:nvPr/>
        </p:nvSpPr>
        <p:spPr>
          <a:xfrm>
            <a:off x="4211640" y="1089000"/>
            <a:ext cx="5508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lipsa 14"/>
          <p:cNvSpPr/>
          <p:nvPr/>
        </p:nvSpPr>
        <p:spPr>
          <a:xfrm>
            <a:off x="4716360" y="1052640"/>
            <a:ext cx="46080" cy="72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Łącznik prosty 15"/>
          <p:cNvSpPr/>
          <p:nvPr/>
        </p:nvSpPr>
        <p:spPr>
          <a:xfrm flipH="1">
            <a:off x="3995640" y="1617840"/>
            <a:ext cx="1014480" cy="10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Elipsa 16"/>
          <p:cNvSpPr/>
          <p:nvPr/>
        </p:nvSpPr>
        <p:spPr>
          <a:xfrm>
            <a:off x="3924360" y="155736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Łącznik prosty 17"/>
          <p:cNvSpPr/>
          <p:nvPr/>
        </p:nvSpPr>
        <p:spPr>
          <a:xfrm flipH="1">
            <a:off x="3425400" y="2935440"/>
            <a:ext cx="21481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Elipsa 18"/>
          <p:cNvSpPr/>
          <p:nvPr/>
        </p:nvSpPr>
        <p:spPr>
          <a:xfrm>
            <a:off x="3419640" y="2924280"/>
            <a:ext cx="4572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Łącznik prosty 19"/>
          <p:cNvSpPr/>
          <p:nvPr/>
        </p:nvSpPr>
        <p:spPr>
          <a:xfrm>
            <a:off x="3708360" y="3465360"/>
            <a:ext cx="1511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Elipsa 20"/>
          <p:cNvSpPr/>
          <p:nvPr/>
        </p:nvSpPr>
        <p:spPr>
          <a:xfrm>
            <a:off x="5219640" y="342900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Elipsa 29"/>
          <p:cNvSpPr/>
          <p:nvPr/>
        </p:nvSpPr>
        <p:spPr>
          <a:xfrm>
            <a:off x="2870280" y="2349360"/>
            <a:ext cx="46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Łącznik prosty 30"/>
          <p:cNvSpPr/>
          <p:nvPr/>
        </p:nvSpPr>
        <p:spPr>
          <a:xfrm flipH="1">
            <a:off x="2987280" y="2421000"/>
            <a:ext cx="3073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rostokąt 33"/>
          <p:cNvSpPr/>
          <p:nvPr/>
        </p:nvSpPr>
        <p:spPr>
          <a:xfrm>
            <a:off x="1116000" y="436716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ami symetrycznymi względem osi y są punk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rostokąt 34" descr=""/>
          <p:cNvPicPr/>
          <p:nvPr/>
        </p:nvPicPr>
        <p:blipFill>
          <a:blip r:embed="rId2"/>
          <a:stretch/>
        </p:blipFill>
        <p:spPr>
          <a:xfrm>
            <a:off x="2073240" y="4681440"/>
            <a:ext cx="4619520" cy="2060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8:39:31Z</dcterms:created>
  <dc:creator>temp</dc:creator>
  <dc:description/>
  <dc:language>en-US</dc:language>
  <cp:lastModifiedBy>Ania</cp:lastModifiedBy>
  <dcterms:modified xsi:type="dcterms:W3CDTF">2013-05-27T20:44:52Z</dcterms:modified>
  <cp:revision>58</cp:revision>
  <dc:subject/>
  <dc:title>Symetrie w układzie współrzędnych</dc:title>
</cp:coreProperties>
</file>